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3.png" ContentType="image/png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8697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AD2A-9F28-4299-8F86-FFFE85AA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1F27-8EC9-4044-BE52-ED119A3FF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CF13-DC13-4A61-BA3C-FA1016949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8217-B46B-4FF6-B578-1A520974A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E919-E970-435B-9E46-BF5398412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133-6275-43D4-94D4-BD89DC6DE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FF30-6F73-4C17-8761-47AADA952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FA63-723B-45AE-8919-67BDD3116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C7D-D387-41E9-8D1D-D33EA591E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21A39-C8D5-4F0A-B590-60016233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AD04D-6DB2-4FA3-BC7A-4EF44F3C2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41FE-4C9C-4C51-AC1A-F0902A746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2BFB7-9361-4E09-97E9-1D16DDF895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mic Sans MS"/>
              </a:rPr>
              <a:t>CURRICULUM COMPA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45716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 STRATEGY FOR “RESPONSIVE TEACHING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124080" y="1295280"/>
          <a:ext cx="3041640" cy="304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295280"/>
                    <a:ext cx="30416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1219320" y="5943600"/>
            <a:ext cx="7238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Material drawn from </a:t>
            </a:r>
            <a:r>
              <a:rPr b="0" i="1" lang="en-US" sz="1000" spc="-1" strike="noStrike">
                <a:solidFill>
                  <a:srgbClr val="000000"/>
                </a:solidFill>
                <a:latin typeface="Comic Sans MS"/>
              </a:rPr>
              <a:t>It’s About Time</a:t>
            </a: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 by Alane J. Starko, copyright 1986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Reproduced with permission from Creative Learning Press, Inc., P.O. Box 320, Mansfield Center, CT 0625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“</a:t>
            </a: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This is Boring!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34520" y="1432080"/>
            <a:ext cx="817992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words do not bring happiness to the hearts of teache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way to respond to this statement is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k the students to 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re specifi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 describing their bored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sk students to differentiate between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“Boring A” situ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0033"/>
                </a:solidFill>
                <a:latin typeface="Times New Roman"/>
              </a:rPr>
              <a:t>Boring B” situ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809880" y="3962520"/>
          <a:ext cx="12956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962520"/>
                    <a:ext cx="12956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228600" y="403848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3333cc"/>
                </a:solidFill>
                <a:uFillTx/>
                <a:latin typeface="Times New Roman"/>
              </a:rPr>
              <a:t>Boring A Situ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“I already know that; could you give me an opportunity to show you?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07040" y="4038480"/>
            <a:ext cx="3936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33"/>
                </a:solidFill>
                <a:uFillTx/>
                <a:latin typeface="Times New Roman"/>
              </a:rPr>
              <a:t>Boring B Situation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“At the present time I do not know enough about the topic to be interested in it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wo Kinds of Curriculum Compa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9520" y="2408400"/>
            <a:ext cx="439128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33"/>
                </a:solidFill>
                <a:uFillTx/>
                <a:latin typeface="Times New Roman"/>
              </a:rPr>
              <a:t>Basic Skills Compac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lling, Math Computa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nguage Arts Basic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testin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is easily used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 proficienc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013360" y="2408400"/>
            <a:ext cx="4129200" cy="38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cc"/>
                </a:solidFill>
                <a:uFillTx/>
                <a:latin typeface="Times New Roman"/>
              </a:rPr>
              <a:t>Content Compact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ocial Studies, Science,  Literature, Math Applications, and Problem-Solv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s may already know some material or may be able to read advanced material or master objectives more  quick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800600" y="2133720"/>
            <a:ext cx="0" cy="441936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52280" y="293760"/>
            <a:ext cx="1833840" cy="191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2" dur="500"/>
                                        <p:tgtEl>
                                          <p:spTgt spid="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OST DIFFICULT FIR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33520" y="167652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The teacher previews the student task and selects the most difficult examp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4038480" y="5105520"/>
          <a:ext cx="1549440" cy="155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5105520"/>
                    <a:ext cx="15494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533520" y="27432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The examples are marked (*) and students are given the opportunity t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 these items first as a means of demonstrating mastery or understand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" y="42670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If students are able to demonstrate mastery, then they are free to select alternate activities for that period of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9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GOALS OF COMPACTING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33"/>
                </a:solidFill>
                <a:latin typeface="Times New Roman"/>
              </a:rPr>
              <a:t>Create a challenging learning environ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3333cc"/>
                </a:solidFill>
                <a:latin typeface="Times New Roman"/>
              </a:rPr>
              <a:t>Guarantee proficiency in basic curriculum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ff00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33"/>
                </a:solidFill>
                <a:latin typeface="Times New Roman"/>
              </a:rPr>
              <a:t>Buy time for enrichment and acceler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1295280" y="1828800"/>
          <a:ext cx="21830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828800"/>
                    <a:ext cx="21830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2367000" y="214200"/>
          <a:ext cx="41432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4200"/>
                    <a:ext cx="41432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379440" y="2797200"/>
            <a:ext cx="8610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812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7220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533520" y="1566720"/>
          <a:ext cx="38088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156672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3200400" y="1565280"/>
          <a:ext cx="380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4" name=""/>
          <p:cNvGraphicFramePr/>
          <p:nvPr/>
        </p:nvGraphicFramePr>
        <p:xfrm>
          <a:off x="6400800" y="1565280"/>
          <a:ext cx="38088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457200" y="210492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s of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106440" y="2104920"/>
            <a:ext cx="30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ing Mas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305760" y="2104920"/>
            <a:ext cx="272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nat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9080" y="1127160"/>
            <a:ext cx="83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’s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2367000" y="214200"/>
          <a:ext cx="41432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4200"/>
                    <a:ext cx="41432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379440" y="2797200"/>
            <a:ext cx="8610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812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7220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566720"/>
          <a:ext cx="38088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56672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3200400" y="1565280"/>
          <a:ext cx="380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400800" y="1565280"/>
          <a:ext cx="38088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4008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457200" y="210492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s of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106440" y="2104920"/>
            <a:ext cx="30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ing Mas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5760" y="2104920"/>
            <a:ext cx="272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nat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89080" y="1127160"/>
            <a:ext cx="83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’s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nnette ___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2971800"/>
            <a:ext cx="222552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h ---Decimal Fra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84560" y="3108240"/>
            <a:ext cx="28353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core of 85 percent or higher on the pr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172200" y="3124080"/>
            <a:ext cx="30481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work with class on days they learn concepts she has not maste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work on alternate math enrichment activities on other d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3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8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28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2367000" y="214200"/>
          <a:ext cx="41432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4200"/>
                    <a:ext cx="41432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379440" y="2797200"/>
            <a:ext cx="8610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1566720"/>
          <a:ext cx="38088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56672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3200400" y="1565280"/>
          <a:ext cx="380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6324480" y="1565280"/>
          <a:ext cx="38124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1565280"/>
                    <a:ext cx="3812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457200" y="210492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s of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106440" y="2104920"/>
            <a:ext cx="30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ing Mas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305760" y="2104920"/>
            <a:ext cx="272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nat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89080" y="1127160"/>
            <a:ext cx="83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’s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Jose, Joanne, Sam, and Linda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89080" y="3184560"/>
            <a:ext cx="25304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ocial Studi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lonial Living U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Interest Strong Readers----   Will read and pick up concepts quick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260880" y="3184560"/>
            <a:ext cx="275904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read chapters 5 &amp; 6 in text at own p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 chapter exercises 3, 7, &amp;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ake unit test when rea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248520" y="3124080"/>
            <a:ext cx="28191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ents will select a topic of interest  from a list of  alternate activities related to an aspect of colonial living for an independent stud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500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0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0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2367000" y="214200"/>
          <a:ext cx="4143240" cy="40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4200"/>
                    <a:ext cx="4143240" cy="4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8" name=""/>
          <p:cNvSpPr/>
          <p:nvPr/>
        </p:nvSpPr>
        <p:spPr>
          <a:xfrm>
            <a:off x="379440" y="2797200"/>
            <a:ext cx="8610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04812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72200" y="1969920"/>
            <a:ext cx="0" cy="443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566720"/>
          <a:ext cx="380880" cy="5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56672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3" name=""/>
          <p:cNvGraphicFramePr/>
          <p:nvPr/>
        </p:nvGraphicFramePr>
        <p:xfrm>
          <a:off x="3200400" y="1565280"/>
          <a:ext cx="3808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00400" y="1565280"/>
                    <a:ext cx="3808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6324480" y="1565280"/>
          <a:ext cx="381240" cy="557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24480" y="1565280"/>
                    <a:ext cx="38124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457200" y="2104920"/>
            <a:ext cx="2514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eas of Streng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106440" y="2104920"/>
            <a:ext cx="30913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cumenting Maste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05760" y="2104920"/>
            <a:ext cx="27208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ternate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9080" y="1127160"/>
            <a:ext cx="839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udent’s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____William____________________________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591840" y="3108240"/>
            <a:ext cx="15170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p Ski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59800" y="3032280"/>
            <a:ext cx="2666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d an “A”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pr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05400" y="3032280"/>
            <a:ext cx="28735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read to gat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for h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ok about cast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ll write book ab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tles INSTEAD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ing map activ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647640" y="266760"/>
            <a:ext cx="8191440" cy="72396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" y="258840"/>
            <a:ext cx="770148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cc"/>
                </a:solidFill>
                <a:latin typeface="Times New Roman"/>
              </a:rPr>
              <a:t>Phases of Curriculum Compac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981000"/>
            <a:ext cx="7315200" cy="563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ase I 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Times New Roman"/>
              </a:rPr>
              <a:t>Establishing the goals and outcomes of the unit or segment of instruc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ase II 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Identifying students who may be candidates for compac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ase III 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Times New Roman"/>
              </a:rPr>
              <a:t>Identifying areas to be considered for compact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ase IV 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3333cc"/>
                </a:solidFill>
                <a:latin typeface="Times New Roman"/>
              </a:rPr>
              <a:t>Establish procedures for compacting the basic materi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Phase V 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ff0033"/>
                </a:solidFill>
                <a:latin typeface="Times New Roman"/>
              </a:rPr>
              <a:t>Provide options for enrichment or  acceleration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71360" y="1338120"/>
          <a:ext cx="1352520" cy="200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1360" y="1338120"/>
                    <a:ext cx="135252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2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77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2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7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2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228600" y="249120"/>
          <a:ext cx="8534520" cy="16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49120"/>
                    <a:ext cx="8534520" cy="16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"/>
          <p:cNvSpPr/>
          <p:nvPr/>
        </p:nvSpPr>
        <p:spPr>
          <a:xfrm>
            <a:off x="207360" y="2346480"/>
            <a:ext cx="8710200" cy="24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gress through the education program at rates faster or at 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ounger than conventional; providing instruction at a level 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ce appropriate to a child’s achievement and readines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gardless of grade level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Acceleration may include but is not limit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01520" y="4708440"/>
            <a:ext cx="497196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 Advanced Placement in a Su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 Curriculum Compac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 Telescoping Curric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357120" y="4976640"/>
          <a:ext cx="2005200" cy="1430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7120" y="4976640"/>
                    <a:ext cx="2005200" cy="14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Curriculum Compa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8320" y="1751040"/>
            <a:ext cx="17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Comic Sans MS"/>
              </a:rPr>
              <a:t>Outcomes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1600" y="2286000"/>
            <a:ext cx="82839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By the end of the training participants will hav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) considered student behaviors that might suggest a need for compac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2) clarified curriculum compacting as a strategy for differenti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) recognized the difference between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basic skills compact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Comic Sans MS"/>
              </a:rPr>
              <a:t>compacting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4) discussed the role of assessment as related to compac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5) shared some planning and management tools for compac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7315200" y="762120"/>
          <a:ext cx="1501920" cy="150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15200" y="762120"/>
                    <a:ext cx="1501920" cy="150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1366920" y="96840"/>
          <a:ext cx="6176880" cy="1960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6920" y="96840"/>
                    <a:ext cx="6176880" cy="196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213120" y="2681280"/>
            <a:ext cx="8839800" cy="18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Giving students the opportunity to learn in greater dep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nd breadth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33"/>
                </a:solidFill>
                <a:latin typeface="Times New Roman"/>
              </a:rPr>
              <a:t>Enrichment may include but is not limited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876400" y="4556160"/>
            <a:ext cx="47282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1) Complexity of Con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2) Creative and Original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(3) Self-selected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9" name=""/>
          <p:cNvGraphicFramePr/>
          <p:nvPr/>
        </p:nvGraphicFramePr>
        <p:xfrm>
          <a:off x="509760" y="4724280"/>
          <a:ext cx="2180880" cy="155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9760" y="4724280"/>
                    <a:ext cx="2180880" cy="155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227160" y="2438280"/>
            <a:ext cx="861048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895480" y="1600200"/>
            <a:ext cx="0" cy="4495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19920" y="1600200"/>
            <a:ext cx="0" cy="44956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1347840"/>
            <a:ext cx="28195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rriculum Areas to be Considered for Compac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048120" y="1447920"/>
            <a:ext cx="289548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dures for Compacting Basic Mate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324480" y="1447920"/>
            <a:ext cx="245772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ichment and/or Acceleration Activ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290680" y="366840"/>
          <a:ext cx="4143600" cy="40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90680" y="366840"/>
                    <a:ext cx="4143600" cy="40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76320" y="880920"/>
          <a:ext cx="380880" cy="565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320" y="880920"/>
                    <a:ext cx="3808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3048120" y="957240"/>
          <a:ext cx="380880" cy="565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957240"/>
                    <a:ext cx="3808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6172200" y="957240"/>
          <a:ext cx="380880" cy="565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957240"/>
                    <a:ext cx="38088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9" dur="5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4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9" dur="5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Differentiating in Mixed-Ability Classroo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109520" y="1981080"/>
          <a:ext cx="296244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9520" y="1981080"/>
                    <a:ext cx="296244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47960" y="20574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Teaching should </a:t>
            </a:r>
            <a:r>
              <a:rPr b="0" lang="en-US" sz="3600" spc="-1" strike="noStrike" u="sng">
                <a:solidFill>
                  <a:srgbClr val="000000"/>
                </a:solidFill>
                <a:uFillTx/>
                <a:latin typeface="Comic Sans MS"/>
              </a:rPr>
              <a:t>respond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to what we know about the learner(s).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447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33"/>
                </a:solidFill>
                <a:latin typeface="Times New Roman"/>
              </a:rPr>
              <a:t>Student Behaviors Which May Suggest That Compacting is Necess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680" y="2604960"/>
            <a:ext cx="88257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istently finishes tasks ear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ork is usually well done and corre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Seems to have some advanced familiarity with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mater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xpresses interest in pursuing alternate or advanc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op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Consistent high performance or motiv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reates own puzzles, games, or other diversions in cla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6699240" y="1589040"/>
            <a:ext cx="1833480" cy="191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620120" cy="990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79f"/>
                </a:solidFill>
                <a:latin typeface="Jester"/>
              </a:rPr>
              <a:t>Rapid Rob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17680" y="2286000"/>
          <a:ext cx="446400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17680" y="2286000"/>
                    <a:ext cx="446400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1461960" y="1295280"/>
            <a:ext cx="671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“</a:t>
            </a:r>
            <a:r>
              <a:rPr b="1" lang="en-US" sz="3200" spc="-1" strike="noStrike">
                <a:solidFill>
                  <a:srgbClr val="0000ff"/>
                </a:solidFill>
                <a:latin typeface="Jester"/>
              </a:rPr>
              <a:t>THE DREADED EARLY FINISHER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3124080" y="2209680"/>
          <a:ext cx="3048120" cy="3086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2209680"/>
                    <a:ext cx="304812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287360" y="685800"/>
            <a:ext cx="677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cc"/>
                </a:solidFill>
                <a:latin typeface="Jester"/>
              </a:rPr>
              <a:t>Never Finished Freddi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362320" y="5486400"/>
            <a:ext cx="5128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ff0033"/>
                </a:solidFill>
                <a:latin typeface="Times New Roman"/>
              </a:rPr>
              <a:t>It takes him an hour-and-a-half to watch Sixty Minutes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64480" y="304920"/>
            <a:ext cx="6223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urriculum Compac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2743200" y="2209680"/>
            <a:ext cx="3720960" cy="774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Comic Sans MS"/>
              </a:rPr>
              <a:t>CURRICULUM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Comic Sans MS"/>
              <a:ea typeface="Comic Sans MS"/>
            </a:endParaRPr>
          </a:p>
        </p:txBody>
      </p:sp>
      <p:sp>
        <p:nvSpPr>
          <p:cNvPr id="68" name=""/>
          <p:cNvSpPr/>
          <p:nvPr/>
        </p:nvSpPr>
        <p:spPr>
          <a:xfrm>
            <a:off x="2743200" y="2651040"/>
            <a:ext cx="3902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) What’s important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) What can be skipped or eliminat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) What do students already know or are able to 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) What will they grasp easi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) What can be accomplished quickl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057400" y="1600200"/>
            <a:ext cx="457200" cy="47242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629400" y="1676520"/>
            <a:ext cx="457200" cy="4724280"/>
          </a:xfrm>
          <a:prstGeom prst="rect">
            <a:avLst/>
          </a:prstGeom>
          <a:solidFill>
            <a:srgbClr val="3333cc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276720"/>
            <a:ext cx="1905120" cy="106668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086600" y="3352680"/>
            <a:ext cx="1905120" cy="1067040"/>
          </a:xfrm>
          <a:prstGeom prst="rect">
            <a:avLst/>
          </a:prstGeom>
          <a:solidFill>
            <a:srgbClr val="3333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3429000"/>
            <a:ext cx="1067040" cy="838080"/>
          </a:xfrm>
          <a:prstGeom prst="rightArrow">
            <a:avLst>
              <a:gd name="adj1" fmla="val 50000"/>
              <a:gd name="adj2" fmla="val 31830"/>
            </a:avLst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67480" y="3505320"/>
            <a:ext cx="1067040" cy="838080"/>
          </a:xfrm>
          <a:prstGeom prst="leftArrow">
            <a:avLst>
              <a:gd name="adj1" fmla="val 50000"/>
              <a:gd name="adj2" fmla="val 31830"/>
            </a:avLst>
          </a:prstGeom>
          <a:solidFill>
            <a:srgbClr val="ff00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6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" dur="500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6" dur="500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" dur="500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33"/>
                </a:solidFill>
                <a:latin typeface="Times New Roman"/>
              </a:rPr>
              <a:t>CURRICULUM COMPAC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7960" y="21333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It’s About </a:t>
            </a:r>
            <a:r>
              <a:rPr b="0" lang="en-US" sz="6600" spc="-1" strike="noStrike">
                <a:solidFill>
                  <a:srgbClr val="3333cc"/>
                </a:solidFill>
                <a:latin typeface="Times New Roman"/>
              </a:rPr>
              <a:t>Time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---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Finding </a:t>
            </a:r>
            <a:r>
              <a:rPr b="0" lang="en-US" sz="4000" spc="-1" strike="noStrike">
                <a:solidFill>
                  <a:srgbClr val="3333cc"/>
                </a:solidFill>
                <a:latin typeface="Times New Roman"/>
              </a:rPr>
              <a:t>time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f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udents to pursu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in-depth learn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685800" y="2362320"/>
          <a:ext cx="3581280" cy="35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362320"/>
                    <a:ext cx="358128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89040" y="2133720"/>
            <a:ext cx="68450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 teaching strategy that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“buys time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r acceleration and/or enrichme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152280" y="152280"/>
          <a:ext cx="6248520" cy="175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6248520" cy="17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6851520" y="293760"/>
            <a:ext cx="1833840" cy="1915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609480" y="3505320"/>
            <a:ext cx="8077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oal is to modify or </a:t>
            </a:r>
            <a:r>
              <a:rPr b="1" lang="en-US" sz="3600" spc="-1" strike="noStrike">
                <a:solidFill>
                  <a:srgbClr val="ff0033"/>
                </a:solidFill>
                <a:latin typeface="Times New Roman"/>
              </a:rPr>
              <a:t>“streamline”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curriculum to allow students to move at a quicker pace and then have time to pursue an alternate topic or go into greater depth in an area of stud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8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04T22:13:08Z</dcterms:created>
  <dc:creator>Walt Kearney</dc:creator>
  <dc:description/>
  <dc:language>en-US</dc:language>
  <cp:lastModifiedBy>MCPS</cp:lastModifiedBy>
  <cp:lastPrinted>1999-09-28T17:00:08Z</cp:lastPrinted>
  <dcterms:modified xsi:type="dcterms:W3CDTF">2005-04-08T19:34:25Z</dcterms:modified>
  <cp:revision>29</cp:revision>
  <dc:subject/>
  <dc:title>CURRICULUM COMPACTING</dc:title>
</cp:coreProperties>
</file>